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BD3-6EED-418E-B6D3-04EDA834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F73-5D36-445B-B053-F615C98B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097-8588-46A4-B9A4-AAD89A9F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6F8-954D-47D2-BA1D-BC4FF378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A29-D508-4034-94D4-D5146354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447-7A63-44E6-AF1E-DEC619DB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11D-FC89-4677-9441-46B9CDAC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5A3-16BA-45AC-8705-13949985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2E9-7336-4572-8363-F86B32B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713-A854-4576-829A-8DEF09E5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2A8-7F59-42E7-88D1-40EA673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50C-FF16-4A0A-A412-3BBC71A5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17DD-0931-4234-82B6-024A96CD4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87280" y="2708280"/>
            <a:ext cx="792360" cy="358560"/>
            <a:chOff x="1187280" y="2708280"/>
            <a:chExt cx="792360" cy="358560"/>
          </a:xfrm>
        </p:grpSpPr>
        <p:sp>
          <p:nvSpPr>
            <p:cNvPr id="42" name=""/>
            <p:cNvSpPr/>
            <p:nvPr/>
          </p:nvSpPr>
          <p:spPr>
            <a:xfrm>
              <a:off x="1187280" y="2708280"/>
              <a:ext cx="79236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5892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0328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47640" y="277956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9236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892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0328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7640" y="292392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9236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3672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195640" y="2708280"/>
            <a:ext cx="792000" cy="358560"/>
            <a:chOff x="2195640" y="2708280"/>
            <a:chExt cx="792000" cy="358560"/>
          </a:xfrm>
        </p:grpSpPr>
        <p:sp>
          <p:nvSpPr>
            <p:cNvPr id="54" name=""/>
            <p:cNvSpPr/>
            <p:nvPr/>
          </p:nvSpPr>
          <p:spPr>
            <a:xfrm>
              <a:off x="2195640" y="270828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6692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128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5564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0036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4472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66920" y="292392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11280" y="292392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5564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0360" y="292392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44720" y="292392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3416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8560" y="222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216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84560" y="220500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778200" y="2708280"/>
            <a:ext cx="1873080" cy="360360"/>
            <a:chOff x="3778200" y="2708280"/>
            <a:chExt cx="1873080" cy="360360"/>
          </a:xfrm>
        </p:grpSpPr>
        <p:sp>
          <p:nvSpPr>
            <p:cNvPr id="70" name=""/>
            <p:cNvSpPr/>
            <p:nvPr/>
          </p:nvSpPr>
          <p:spPr>
            <a:xfrm>
              <a:off x="3778200" y="2708280"/>
              <a:ext cx="18730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22560" y="2779560"/>
              <a:ext cx="7128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66920" y="2779560"/>
              <a:ext cx="7164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1280" y="2779560"/>
              <a:ext cx="7164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6000" y="2779560"/>
              <a:ext cx="7128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00360" y="2779560"/>
              <a:ext cx="7128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2256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66920" y="292392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11280" y="292392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600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0036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30560" y="2779560"/>
              <a:ext cx="7128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74920" y="2779560"/>
              <a:ext cx="7164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9640" y="2779560"/>
              <a:ext cx="7128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2779560"/>
              <a:ext cx="7128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08360" y="2779560"/>
              <a:ext cx="71640" cy="712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3056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74920" y="292392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1964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64000" y="292392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08360" y="292392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55640" y="5445000"/>
            <a:ext cx="792000" cy="358560"/>
            <a:chOff x="755640" y="5445000"/>
            <a:chExt cx="792000" cy="358560"/>
          </a:xfrm>
        </p:grpSpPr>
        <p:sp>
          <p:nvSpPr>
            <p:cNvPr id="92" name=""/>
            <p:cNvSpPr/>
            <p:nvPr/>
          </p:nvSpPr>
          <p:spPr>
            <a:xfrm>
              <a:off x="755640" y="544500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692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128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15640" y="551628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6036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0472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692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7128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5640" y="56606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6036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0472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63640" y="5445000"/>
            <a:ext cx="792360" cy="358560"/>
            <a:chOff x="1763640" y="5445000"/>
            <a:chExt cx="792360" cy="358560"/>
          </a:xfrm>
        </p:grpSpPr>
        <p:sp>
          <p:nvSpPr>
            <p:cNvPr id="104" name=""/>
            <p:cNvSpPr/>
            <p:nvPr/>
          </p:nvSpPr>
          <p:spPr>
            <a:xfrm>
              <a:off x="1763640" y="5445000"/>
              <a:ext cx="79236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5280" y="551628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79640" y="551628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4000" y="551628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8720" y="551628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13080" y="551628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5280" y="56606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79640" y="56606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66064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68720" y="56606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13080" y="56606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380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8200" y="4960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80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49760" y="494172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544500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55166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55166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7440" y="551664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2160" y="55166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6520" y="55166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56610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3080" y="56610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7440" y="566100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2160" y="56610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6520" y="56610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55166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080" y="551664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5440" y="551664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50160" y="55166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4520" y="55166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56610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61080" y="566100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5440" y="566100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50160" y="56610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4520" y="56610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26840" y="4941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16360" y="5445000"/>
            <a:ext cx="792000" cy="358560"/>
            <a:chOff x="2916360" y="5445000"/>
            <a:chExt cx="792000" cy="358560"/>
          </a:xfrm>
        </p:grpSpPr>
        <p:sp>
          <p:nvSpPr>
            <p:cNvPr id="142" name=""/>
            <p:cNvSpPr/>
            <p:nvPr/>
          </p:nvSpPr>
          <p:spPr>
            <a:xfrm>
              <a:off x="2916360" y="544500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8764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360" y="551628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108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6544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8764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6360" y="56606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108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544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24360" y="5445000"/>
            <a:ext cx="792000" cy="358560"/>
            <a:chOff x="3924360" y="5445000"/>
            <a:chExt cx="792000" cy="358560"/>
          </a:xfrm>
        </p:grpSpPr>
        <p:sp>
          <p:nvSpPr>
            <p:cNvPr id="154" name=""/>
            <p:cNvSpPr/>
            <p:nvPr/>
          </p:nvSpPr>
          <p:spPr>
            <a:xfrm>
              <a:off x="3924360" y="544500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564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4000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84360" y="551628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2908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3440" y="551628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564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4000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84360" y="56606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2908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440" y="56606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13416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8920" y="4960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252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7080" y="357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58770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3080" y="58770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7440" y="587700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2160" y="58770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6520" y="58770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60213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3080" y="60213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7440" y="60213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2160" y="60213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6520" y="60213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58770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61080" y="587700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5440" y="587700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50160" y="58770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4520" y="58770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16720" y="60213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61080" y="60213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05440" y="60213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50160" y="60213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4520" y="60213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220760"/>
            <a:ext cx="792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8360" y="1220760"/>
            <a:ext cx="792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725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380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88560" y="711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180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84560" y="69228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4102200"/>
            <a:ext cx="79200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6720" y="4102200"/>
            <a:ext cx="79236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2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56920" y="3592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10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49760" y="359100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6200" y="4125960"/>
            <a:ext cx="79200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4125960"/>
            <a:ext cx="79200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360" y="359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87120" y="3616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359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636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73080" y="47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717480"/>
            <a:ext cx="934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2205000"/>
            <a:ext cx="934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0720" y="3573360"/>
            <a:ext cx="935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869000"/>
            <a:ext cx="934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258920" y="979560"/>
            <a:ext cx="792000" cy="358560"/>
            <a:chOff x="1258920" y="979560"/>
            <a:chExt cx="792000" cy="358560"/>
          </a:xfrm>
        </p:grpSpPr>
        <p:sp>
          <p:nvSpPr>
            <p:cNvPr id="214" name=""/>
            <p:cNvSpPr/>
            <p:nvPr/>
          </p:nvSpPr>
          <p:spPr>
            <a:xfrm>
              <a:off x="1258920" y="97956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30200" y="10508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74560" y="10508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18920" y="10508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63640" y="10508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08000" y="105084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0200" y="119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4560" y="119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18920" y="119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63640" y="119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8000" y="119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266920" y="979560"/>
            <a:ext cx="792360" cy="358560"/>
            <a:chOff x="2266920" y="979560"/>
            <a:chExt cx="792360" cy="358560"/>
          </a:xfrm>
        </p:grpSpPr>
        <p:sp>
          <p:nvSpPr>
            <p:cNvPr id="226" name=""/>
            <p:cNvSpPr/>
            <p:nvPr/>
          </p:nvSpPr>
          <p:spPr>
            <a:xfrm>
              <a:off x="2266920" y="979560"/>
              <a:ext cx="79236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38560" y="10508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82920" y="10508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7280" y="105084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72000" y="10508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16360" y="105084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38560" y="119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82920" y="119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27280" y="1195200"/>
              <a:ext cx="7164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72000" y="119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16360" y="119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405440" y="47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23560" y="495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3440" y="47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22840" y="47628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27640" y="979560"/>
            <a:ext cx="21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105084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6360" y="105084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080" y="105084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5440" y="105084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9800" y="105084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19556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119556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61080" y="119556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5440" y="119556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9800" y="119556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105084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105084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9080" y="105084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3440" y="105084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57800" y="105084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119556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24360" y="119556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9080" y="119556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3440" y="119556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57800" y="119556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73800" y="10526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3800" y="11970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19640" y="105084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19640" y="119556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31560" y="47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9800" y="47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68360" y="2563920"/>
            <a:ext cx="792000" cy="358560"/>
            <a:chOff x="468360" y="2563920"/>
            <a:chExt cx="792000" cy="358560"/>
          </a:xfrm>
        </p:grpSpPr>
        <p:sp>
          <p:nvSpPr>
            <p:cNvPr id="269" name=""/>
            <p:cNvSpPr/>
            <p:nvPr/>
          </p:nvSpPr>
          <p:spPr>
            <a:xfrm>
              <a:off x="468360" y="256392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964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400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360" y="263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7308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1744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964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400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836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7308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1744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476360" y="2563920"/>
            <a:ext cx="792000" cy="358560"/>
            <a:chOff x="1476360" y="2563920"/>
            <a:chExt cx="792000" cy="358560"/>
          </a:xfrm>
        </p:grpSpPr>
        <p:sp>
          <p:nvSpPr>
            <p:cNvPr id="281" name=""/>
            <p:cNvSpPr/>
            <p:nvPr/>
          </p:nvSpPr>
          <p:spPr>
            <a:xfrm>
              <a:off x="1476360" y="256392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764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9200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6360" y="263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108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2544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4764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9200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3636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2544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86520" y="20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40920" y="2079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94520" y="20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65760" y="206064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80000" y="2563920"/>
            <a:ext cx="2376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263520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9080" y="26352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3440" y="26352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7800" y="263520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02520" y="26352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795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9080" y="2779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3440" y="2779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57800" y="27795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02520" y="2779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26352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77080" y="26352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1440" y="263520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65800" y="263520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10520" y="26352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2779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77080" y="2779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21440" y="27795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65800" y="27795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10520" y="2779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3956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629080" y="2563920"/>
            <a:ext cx="792000" cy="358560"/>
            <a:chOff x="2629080" y="2563920"/>
            <a:chExt cx="792000" cy="358560"/>
          </a:xfrm>
        </p:grpSpPr>
        <p:sp>
          <p:nvSpPr>
            <p:cNvPr id="319" name=""/>
            <p:cNvSpPr/>
            <p:nvPr/>
          </p:nvSpPr>
          <p:spPr>
            <a:xfrm>
              <a:off x="2629080" y="256392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0036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4472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89080" y="263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3380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7816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0036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4472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8908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3380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816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637080" y="2563920"/>
            <a:ext cx="792000" cy="358560"/>
            <a:chOff x="3637080" y="2563920"/>
            <a:chExt cx="792000" cy="358560"/>
          </a:xfrm>
        </p:grpSpPr>
        <p:sp>
          <p:nvSpPr>
            <p:cNvPr id="331" name=""/>
            <p:cNvSpPr/>
            <p:nvPr/>
          </p:nvSpPr>
          <p:spPr>
            <a:xfrm>
              <a:off x="3637080" y="2563920"/>
              <a:ext cx="792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5272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97080" y="263520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4180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6160" y="263520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836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5272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97080" y="2779560"/>
              <a:ext cx="7128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4180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86160" y="2779560"/>
              <a:ext cx="70920" cy="716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46880" y="20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01640" y="2079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54880" y="20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9992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24360" y="29955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2995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3440" y="2995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7800" y="29955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02520" y="2995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24360" y="313992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13992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13440" y="313992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57800" y="313992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02520" y="313992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2995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77080" y="2995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021440" y="29955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165800" y="299556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10520" y="2995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32720" y="313992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77080" y="313992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21440" y="313992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65800" y="313992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10520" y="313992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88000" y="263520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88000" y="2779560"/>
            <a:ext cx="7128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18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03640" y="263700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03640" y="278136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24720" y="2852640"/>
            <a:ext cx="71640" cy="716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24720" y="2997360"/>
            <a:ext cx="7164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40720" y="285444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740720" y="2998800"/>
            <a:ext cx="71280" cy="7128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27640" y="476280"/>
            <a:ext cx="934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56360" y="1989000"/>
            <a:ext cx="934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24000" y="404640"/>
            <a:ext cx="431640" cy="287640"/>
            <a:chOff x="324000" y="404640"/>
            <a:chExt cx="431640" cy="287640"/>
          </a:xfrm>
        </p:grpSpPr>
        <p:sp>
          <p:nvSpPr>
            <p:cNvPr id="378" name=""/>
            <p:cNvSpPr/>
            <p:nvPr/>
          </p:nvSpPr>
          <p:spPr>
            <a:xfrm>
              <a:off x="324000" y="404640"/>
              <a:ext cx="431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2880" y="4615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360" y="4615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0200" y="4615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9040" y="4615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7880" y="4615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2880" y="5774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1360" y="5774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0200" y="5774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040" y="5774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880" y="5774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24000" y="765000"/>
            <a:ext cx="431640" cy="287640"/>
            <a:chOff x="324000" y="765000"/>
            <a:chExt cx="431640" cy="287640"/>
          </a:xfrm>
        </p:grpSpPr>
        <p:sp>
          <p:nvSpPr>
            <p:cNvPr id="390" name=""/>
            <p:cNvSpPr/>
            <p:nvPr/>
          </p:nvSpPr>
          <p:spPr>
            <a:xfrm>
              <a:off x="324000" y="765000"/>
              <a:ext cx="431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2880" y="821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1360" y="821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0200" y="8218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9040" y="821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7880" y="821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2880" y="9378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1360" y="9378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0200" y="9378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9040" y="9378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7880" y="9378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826920" y="765000"/>
            <a:ext cx="432000" cy="287640"/>
            <a:chOff x="826920" y="765000"/>
            <a:chExt cx="432000" cy="287640"/>
          </a:xfrm>
        </p:grpSpPr>
        <p:sp>
          <p:nvSpPr>
            <p:cNvPr id="402" name=""/>
            <p:cNvSpPr/>
            <p:nvPr/>
          </p:nvSpPr>
          <p:spPr>
            <a:xfrm>
              <a:off x="826920" y="765000"/>
              <a:ext cx="4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5800" y="821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44640" y="821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23120" y="8218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02320" y="821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80800" y="821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5800" y="9378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44640" y="9378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3120" y="9378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02320" y="9378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80800" y="9378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24000" y="1125360"/>
            <a:ext cx="431640" cy="287640"/>
            <a:chOff x="324000" y="1125360"/>
            <a:chExt cx="431640" cy="287640"/>
          </a:xfrm>
        </p:grpSpPr>
        <p:sp>
          <p:nvSpPr>
            <p:cNvPr id="414" name=""/>
            <p:cNvSpPr/>
            <p:nvPr/>
          </p:nvSpPr>
          <p:spPr>
            <a:xfrm>
              <a:off x="324000" y="1125360"/>
              <a:ext cx="431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288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136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0200" y="11822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04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788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288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136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200" y="12981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904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788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26920" y="1125360"/>
            <a:ext cx="432000" cy="287640"/>
            <a:chOff x="826920" y="1125360"/>
            <a:chExt cx="432000" cy="287640"/>
          </a:xfrm>
        </p:grpSpPr>
        <p:sp>
          <p:nvSpPr>
            <p:cNvPr id="426" name=""/>
            <p:cNvSpPr/>
            <p:nvPr/>
          </p:nvSpPr>
          <p:spPr>
            <a:xfrm>
              <a:off x="826920" y="1125360"/>
              <a:ext cx="4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580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4464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23120" y="11822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0232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8080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580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4464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23120" y="12981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0232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8080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332000" y="1125360"/>
            <a:ext cx="431640" cy="287640"/>
            <a:chOff x="1332000" y="1125360"/>
            <a:chExt cx="431640" cy="287640"/>
          </a:xfrm>
        </p:grpSpPr>
        <p:sp>
          <p:nvSpPr>
            <p:cNvPr id="438" name=""/>
            <p:cNvSpPr/>
            <p:nvPr/>
          </p:nvSpPr>
          <p:spPr>
            <a:xfrm>
              <a:off x="1332000" y="1125360"/>
              <a:ext cx="43164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7088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4936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8200" y="11822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0704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85880" y="1182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7088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4936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8200" y="12981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0704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85880" y="12981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24000" y="1486080"/>
            <a:ext cx="431640" cy="287280"/>
            <a:chOff x="324000" y="1486080"/>
            <a:chExt cx="431640" cy="287280"/>
          </a:xfrm>
        </p:grpSpPr>
        <p:sp>
          <p:nvSpPr>
            <p:cNvPr id="450" name=""/>
            <p:cNvSpPr/>
            <p:nvPr/>
          </p:nvSpPr>
          <p:spPr>
            <a:xfrm>
              <a:off x="324000" y="14860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288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136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0200" y="1542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904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788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288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36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0200" y="16588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904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788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826920" y="1486080"/>
            <a:ext cx="432000" cy="287280"/>
            <a:chOff x="826920" y="1486080"/>
            <a:chExt cx="432000" cy="287280"/>
          </a:xfrm>
        </p:grpSpPr>
        <p:sp>
          <p:nvSpPr>
            <p:cNvPr id="462" name=""/>
            <p:cNvSpPr/>
            <p:nvPr/>
          </p:nvSpPr>
          <p:spPr>
            <a:xfrm>
              <a:off x="826920" y="148608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580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4464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23120" y="1542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0232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8080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580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4464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23120" y="16588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0232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080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332000" y="1486080"/>
            <a:ext cx="431640" cy="287280"/>
            <a:chOff x="1332000" y="1486080"/>
            <a:chExt cx="431640" cy="287280"/>
          </a:xfrm>
        </p:grpSpPr>
        <p:sp>
          <p:nvSpPr>
            <p:cNvPr id="474" name=""/>
            <p:cNvSpPr/>
            <p:nvPr/>
          </p:nvSpPr>
          <p:spPr>
            <a:xfrm>
              <a:off x="1332000" y="14860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7088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936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28200" y="1542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0704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8588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7088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4936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8200" y="16588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704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8588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836720" y="1486080"/>
            <a:ext cx="431640" cy="287280"/>
            <a:chOff x="1836720" y="1486080"/>
            <a:chExt cx="431640" cy="287280"/>
          </a:xfrm>
        </p:grpSpPr>
        <p:sp>
          <p:nvSpPr>
            <p:cNvPr id="486" name=""/>
            <p:cNvSpPr/>
            <p:nvPr/>
          </p:nvSpPr>
          <p:spPr>
            <a:xfrm>
              <a:off x="1836720" y="14860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560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408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32920" y="1542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1176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90600" y="1542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7560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5408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2920" y="16588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1176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90600" y="16588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24000" y="1846440"/>
            <a:ext cx="431640" cy="287280"/>
            <a:chOff x="324000" y="1846440"/>
            <a:chExt cx="431640" cy="287280"/>
          </a:xfrm>
        </p:grpSpPr>
        <p:sp>
          <p:nvSpPr>
            <p:cNvPr id="498" name=""/>
            <p:cNvSpPr/>
            <p:nvPr/>
          </p:nvSpPr>
          <p:spPr>
            <a:xfrm>
              <a:off x="324000" y="18464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288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136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0200" y="1903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904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788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288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136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0200" y="20192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904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788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826920" y="1846440"/>
            <a:ext cx="432000" cy="287280"/>
            <a:chOff x="826920" y="1846440"/>
            <a:chExt cx="432000" cy="287280"/>
          </a:xfrm>
        </p:grpSpPr>
        <p:sp>
          <p:nvSpPr>
            <p:cNvPr id="510" name=""/>
            <p:cNvSpPr/>
            <p:nvPr/>
          </p:nvSpPr>
          <p:spPr>
            <a:xfrm>
              <a:off x="826920" y="184644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580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4464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23120" y="1903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0232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8080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6580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4464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23120" y="20192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0232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8080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332000" y="1846440"/>
            <a:ext cx="431640" cy="287280"/>
            <a:chOff x="1332000" y="1846440"/>
            <a:chExt cx="431640" cy="287280"/>
          </a:xfrm>
        </p:grpSpPr>
        <p:sp>
          <p:nvSpPr>
            <p:cNvPr id="522" name=""/>
            <p:cNvSpPr/>
            <p:nvPr/>
          </p:nvSpPr>
          <p:spPr>
            <a:xfrm>
              <a:off x="1332000" y="18464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7088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4936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28200" y="1903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0704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8588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7088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936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28200" y="20192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0704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8588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836720" y="1846440"/>
            <a:ext cx="431640" cy="287280"/>
            <a:chOff x="1836720" y="1846440"/>
            <a:chExt cx="431640" cy="287280"/>
          </a:xfrm>
        </p:grpSpPr>
        <p:sp>
          <p:nvSpPr>
            <p:cNvPr id="534" name=""/>
            <p:cNvSpPr/>
            <p:nvPr/>
          </p:nvSpPr>
          <p:spPr>
            <a:xfrm>
              <a:off x="1836720" y="18464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7560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5408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32920" y="1903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1176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060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7560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5408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32920" y="20192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1176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9060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341440" y="1846440"/>
            <a:ext cx="432000" cy="287280"/>
            <a:chOff x="2341440" y="1846440"/>
            <a:chExt cx="432000" cy="287280"/>
          </a:xfrm>
        </p:grpSpPr>
        <p:sp>
          <p:nvSpPr>
            <p:cNvPr id="546" name=""/>
            <p:cNvSpPr/>
            <p:nvPr/>
          </p:nvSpPr>
          <p:spPr>
            <a:xfrm>
              <a:off x="2341440" y="184644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8032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5916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37640" y="1903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1684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95320" y="1903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8032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5916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37640" y="20192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61684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695320" y="20192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24000" y="2206800"/>
            <a:ext cx="431640" cy="287280"/>
            <a:chOff x="324000" y="2206800"/>
            <a:chExt cx="431640" cy="287280"/>
          </a:xfrm>
        </p:grpSpPr>
        <p:sp>
          <p:nvSpPr>
            <p:cNvPr id="558" name=""/>
            <p:cNvSpPr/>
            <p:nvPr/>
          </p:nvSpPr>
          <p:spPr>
            <a:xfrm>
              <a:off x="324000" y="220680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288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136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0200" y="2263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904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88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288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136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0200" y="23796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904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788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826920" y="2206800"/>
            <a:ext cx="432000" cy="287280"/>
            <a:chOff x="826920" y="2206800"/>
            <a:chExt cx="432000" cy="287280"/>
          </a:xfrm>
        </p:grpSpPr>
        <p:sp>
          <p:nvSpPr>
            <p:cNvPr id="570" name=""/>
            <p:cNvSpPr/>
            <p:nvPr/>
          </p:nvSpPr>
          <p:spPr>
            <a:xfrm>
              <a:off x="826920" y="220680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580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4464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23120" y="2263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0232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8080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580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4464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023120" y="23796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0232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8080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332000" y="2206800"/>
            <a:ext cx="431640" cy="287280"/>
            <a:chOff x="1332000" y="2206800"/>
            <a:chExt cx="431640" cy="287280"/>
          </a:xfrm>
        </p:grpSpPr>
        <p:sp>
          <p:nvSpPr>
            <p:cNvPr id="582" name=""/>
            <p:cNvSpPr/>
            <p:nvPr/>
          </p:nvSpPr>
          <p:spPr>
            <a:xfrm>
              <a:off x="1332000" y="220680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7088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4936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28200" y="2263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0704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8588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7088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4936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8200" y="23796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704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8588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836720" y="2206800"/>
            <a:ext cx="431640" cy="287280"/>
            <a:chOff x="1836720" y="2206800"/>
            <a:chExt cx="431640" cy="287280"/>
          </a:xfrm>
        </p:grpSpPr>
        <p:sp>
          <p:nvSpPr>
            <p:cNvPr id="594" name=""/>
            <p:cNvSpPr/>
            <p:nvPr/>
          </p:nvSpPr>
          <p:spPr>
            <a:xfrm>
              <a:off x="1836720" y="220680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7560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5408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32920" y="2263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1176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9060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7560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5408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32920" y="23796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1176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9060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341440" y="2206800"/>
            <a:ext cx="432000" cy="287280"/>
            <a:chOff x="2341440" y="2206800"/>
            <a:chExt cx="432000" cy="287280"/>
          </a:xfrm>
        </p:grpSpPr>
        <p:sp>
          <p:nvSpPr>
            <p:cNvPr id="606" name=""/>
            <p:cNvSpPr/>
            <p:nvPr/>
          </p:nvSpPr>
          <p:spPr>
            <a:xfrm>
              <a:off x="2341440" y="220680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38032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5916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37640" y="2263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1684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9532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8032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5916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37640" y="23796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1684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9532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2846520" y="2206800"/>
            <a:ext cx="431640" cy="287280"/>
            <a:chOff x="2846520" y="2206800"/>
            <a:chExt cx="431640" cy="287280"/>
          </a:xfrm>
        </p:grpSpPr>
        <p:sp>
          <p:nvSpPr>
            <p:cNvPr id="618" name=""/>
            <p:cNvSpPr/>
            <p:nvPr/>
          </p:nvSpPr>
          <p:spPr>
            <a:xfrm>
              <a:off x="2846520" y="220680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8540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6388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42720" y="2263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2156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00400" y="2263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8540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6388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42720" y="23796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12156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00400" y="23796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24000" y="2567160"/>
            <a:ext cx="431640" cy="287280"/>
            <a:chOff x="324000" y="2567160"/>
            <a:chExt cx="431640" cy="287280"/>
          </a:xfrm>
        </p:grpSpPr>
        <p:sp>
          <p:nvSpPr>
            <p:cNvPr id="630" name=""/>
            <p:cNvSpPr/>
            <p:nvPr/>
          </p:nvSpPr>
          <p:spPr>
            <a:xfrm>
              <a:off x="324000" y="256716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288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136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0200" y="2624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904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788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288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136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0200" y="2739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904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788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826920" y="2567160"/>
            <a:ext cx="432000" cy="287280"/>
            <a:chOff x="826920" y="2567160"/>
            <a:chExt cx="432000" cy="287280"/>
          </a:xfrm>
        </p:grpSpPr>
        <p:sp>
          <p:nvSpPr>
            <p:cNvPr id="642" name=""/>
            <p:cNvSpPr/>
            <p:nvPr/>
          </p:nvSpPr>
          <p:spPr>
            <a:xfrm>
              <a:off x="826920" y="256716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580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4464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23120" y="2624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0232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8080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6580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4464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23120" y="2739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0232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8080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332000" y="2567160"/>
            <a:ext cx="431640" cy="287280"/>
            <a:chOff x="1332000" y="2567160"/>
            <a:chExt cx="431640" cy="287280"/>
          </a:xfrm>
        </p:grpSpPr>
        <p:sp>
          <p:nvSpPr>
            <p:cNvPr id="654" name=""/>
            <p:cNvSpPr/>
            <p:nvPr/>
          </p:nvSpPr>
          <p:spPr>
            <a:xfrm>
              <a:off x="1332000" y="256716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7088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4936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28200" y="2624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0704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8588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7088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4936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28200" y="2739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0704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8588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836720" y="2567160"/>
            <a:ext cx="431640" cy="287280"/>
            <a:chOff x="1836720" y="2567160"/>
            <a:chExt cx="431640" cy="287280"/>
          </a:xfrm>
        </p:grpSpPr>
        <p:sp>
          <p:nvSpPr>
            <p:cNvPr id="666" name=""/>
            <p:cNvSpPr/>
            <p:nvPr/>
          </p:nvSpPr>
          <p:spPr>
            <a:xfrm>
              <a:off x="1836720" y="256716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7560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408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32920" y="2624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1176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9060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7560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95408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32920" y="2739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1176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9060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341440" y="2567160"/>
            <a:ext cx="432000" cy="287280"/>
            <a:chOff x="2341440" y="2567160"/>
            <a:chExt cx="432000" cy="287280"/>
          </a:xfrm>
        </p:grpSpPr>
        <p:sp>
          <p:nvSpPr>
            <p:cNvPr id="678" name=""/>
            <p:cNvSpPr/>
            <p:nvPr/>
          </p:nvSpPr>
          <p:spPr>
            <a:xfrm>
              <a:off x="2341440" y="256716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8032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5916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37640" y="2624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684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9532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032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5916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37640" y="2739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1684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9532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2846520" y="2567160"/>
            <a:ext cx="431640" cy="287280"/>
            <a:chOff x="2846520" y="2567160"/>
            <a:chExt cx="431640" cy="287280"/>
          </a:xfrm>
        </p:grpSpPr>
        <p:sp>
          <p:nvSpPr>
            <p:cNvPr id="690" name=""/>
            <p:cNvSpPr/>
            <p:nvPr/>
          </p:nvSpPr>
          <p:spPr>
            <a:xfrm>
              <a:off x="2846520" y="256716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8540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6388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2720" y="2624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156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0040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8540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6388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42720" y="2739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12156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040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351240" y="2567160"/>
            <a:ext cx="431640" cy="287280"/>
            <a:chOff x="3351240" y="2567160"/>
            <a:chExt cx="431640" cy="287280"/>
          </a:xfrm>
        </p:grpSpPr>
        <p:sp>
          <p:nvSpPr>
            <p:cNvPr id="702" name=""/>
            <p:cNvSpPr/>
            <p:nvPr/>
          </p:nvSpPr>
          <p:spPr>
            <a:xfrm>
              <a:off x="3351240" y="256716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9012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6860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547440" y="2624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2628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05120" y="2624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9012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6860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47440" y="27399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2628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05120" y="27399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24000" y="2927520"/>
            <a:ext cx="431640" cy="287280"/>
            <a:chOff x="324000" y="2927520"/>
            <a:chExt cx="431640" cy="287280"/>
          </a:xfrm>
        </p:grpSpPr>
        <p:sp>
          <p:nvSpPr>
            <p:cNvPr id="714" name=""/>
            <p:cNvSpPr/>
            <p:nvPr/>
          </p:nvSpPr>
          <p:spPr>
            <a:xfrm>
              <a:off x="324000" y="292752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288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136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0200" y="29844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904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788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288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136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200" y="3100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904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788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826920" y="2927520"/>
            <a:ext cx="432000" cy="287280"/>
            <a:chOff x="826920" y="2927520"/>
            <a:chExt cx="432000" cy="287280"/>
          </a:xfrm>
        </p:grpSpPr>
        <p:sp>
          <p:nvSpPr>
            <p:cNvPr id="726" name=""/>
            <p:cNvSpPr/>
            <p:nvPr/>
          </p:nvSpPr>
          <p:spPr>
            <a:xfrm>
              <a:off x="826920" y="292752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580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4464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23120" y="29844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0232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8080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6580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4464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23120" y="3100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0232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8080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332000" y="2927520"/>
            <a:ext cx="431640" cy="287280"/>
            <a:chOff x="1332000" y="2927520"/>
            <a:chExt cx="431640" cy="287280"/>
          </a:xfrm>
        </p:grpSpPr>
        <p:sp>
          <p:nvSpPr>
            <p:cNvPr id="738" name=""/>
            <p:cNvSpPr/>
            <p:nvPr/>
          </p:nvSpPr>
          <p:spPr>
            <a:xfrm>
              <a:off x="1332000" y="292752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7088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936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28200" y="29844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0704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588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7088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4936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28200" y="3100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0704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8588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1836720" y="2927520"/>
            <a:ext cx="431640" cy="287280"/>
            <a:chOff x="1836720" y="2927520"/>
            <a:chExt cx="431640" cy="287280"/>
          </a:xfrm>
        </p:grpSpPr>
        <p:sp>
          <p:nvSpPr>
            <p:cNvPr id="750" name=""/>
            <p:cNvSpPr/>
            <p:nvPr/>
          </p:nvSpPr>
          <p:spPr>
            <a:xfrm>
              <a:off x="1836720" y="292752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7560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5408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32920" y="29844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1176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9060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7560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5408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32920" y="3100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1176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9060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341440" y="2927520"/>
            <a:ext cx="432000" cy="287280"/>
            <a:chOff x="2341440" y="2927520"/>
            <a:chExt cx="432000" cy="287280"/>
          </a:xfrm>
        </p:grpSpPr>
        <p:sp>
          <p:nvSpPr>
            <p:cNvPr id="762" name=""/>
            <p:cNvSpPr/>
            <p:nvPr/>
          </p:nvSpPr>
          <p:spPr>
            <a:xfrm>
              <a:off x="2341440" y="292752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8032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5916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537640" y="29844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1684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69532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8032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5916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37640" y="3100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84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9532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846520" y="2927520"/>
            <a:ext cx="431640" cy="287280"/>
            <a:chOff x="2846520" y="2927520"/>
            <a:chExt cx="431640" cy="287280"/>
          </a:xfrm>
        </p:grpSpPr>
        <p:sp>
          <p:nvSpPr>
            <p:cNvPr id="774" name=""/>
            <p:cNvSpPr/>
            <p:nvPr/>
          </p:nvSpPr>
          <p:spPr>
            <a:xfrm>
              <a:off x="2846520" y="292752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8540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6388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42720" y="29844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2156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0040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8540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6388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42720" y="3100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2156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0040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3351240" y="2927520"/>
            <a:ext cx="431640" cy="287280"/>
            <a:chOff x="3351240" y="2927520"/>
            <a:chExt cx="431640" cy="287280"/>
          </a:xfrm>
        </p:grpSpPr>
        <p:sp>
          <p:nvSpPr>
            <p:cNvPr id="786" name=""/>
            <p:cNvSpPr/>
            <p:nvPr/>
          </p:nvSpPr>
          <p:spPr>
            <a:xfrm>
              <a:off x="3351240" y="292752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9012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6860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47440" y="29844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2628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0512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9012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6860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547440" y="3100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2628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0512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855960" y="2927520"/>
            <a:ext cx="432000" cy="287280"/>
            <a:chOff x="3855960" y="2927520"/>
            <a:chExt cx="432000" cy="287280"/>
          </a:xfrm>
        </p:grpSpPr>
        <p:sp>
          <p:nvSpPr>
            <p:cNvPr id="798" name=""/>
            <p:cNvSpPr/>
            <p:nvPr/>
          </p:nvSpPr>
          <p:spPr>
            <a:xfrm>
              <a:off x="3855960" y="292752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9484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97368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52160" y="298440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3136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09840" y="298440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9484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97368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52160" y="31003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3136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209840" y="31003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24000" y="3287880"/>
            <a:ext cx="431640" cy="287280"/>
            <a:chOff x="324000" y="3287880"/>
            <a:chExt cx="431640" cy="287280"/>
          </a:xfrm>
        </p:grpSpPr>
        <p:sp>
          <p:nvSpPr>
            <p:cNvPr id="810" name=""/>
            <p:cNvSpPr/>
            <p:nvPr/>
          </p:nvSpPr>
          <p:spPr>
            <a:xfrm>
              <a:off x="324000" y="32878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8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136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020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904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78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628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136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020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904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78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826920" y="3287880"/>
            <a:ext cx="432000" cy="287280"/>
            <a:chOff x="826920" y="3287880"/>
            <a:chExt cx="432000" cy="287280"/>
          </a:xfrm>
        </p:grpSpPr>
        <p:sp>
          <p:nvSpPr>
            <p:cNvPr id="822" name=""/>
            <p:cNvSpPr/>
            <p:nvPr/>
          </p:nvSpPr>
          <p:spPr>
            <a:xfrm>
              <a:off x="826920" y="328788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6580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4464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2312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0232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8080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6580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4464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02312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0232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8080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1332000" y="3287880"/>
            <a:ext cx="431640" cy="287280"/>
            <a:chOff x="1332000" y="3287880"/>
            <a:chExt cx="431640" cy="287280"/>
          </a:xfrm>
        </p:grpSpPr>
        <p:sp>
          <p:nvSpPr>
            <p:cNvPr id="834" name=""/>
            <p:cNvSpPr/>
            <p:nvPr/>
          </p:nvSpPr>
          <p:spPr>
            <a:xfrm>
              <a:off x="1332000" y="32878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708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4936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2820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0704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6858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708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4936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2820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0704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858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836720" y="3287880"/>
            <a:ext cx="431640" cy="287280"/>
            <a:chOff x="1836720" y="3287880"/>
            <a:chExt cx="431640" cy="287280"/>
          </a:xfrm>
        </p:grpSpPr>
        <p:sp>
          <p:nvSpPr>
            <p:cNvPr id="846" name=""/>
            <p:cNvSpPr/>
            <p:nvPr/>
          </p:nvSpPr>
          <p:spPr>
            <a:xfrm>
              <a:off x="1836720" y="32878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7560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9540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3292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1176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9060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7560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540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3292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11176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19060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2341440" y="3287880"/>
            <a:ext cx="432000" cy="287280"/>
            <a:chOff x="2341440" y="3287880"/>
            <a:chExt cx="432000" cy="287280"/>
          </a:xfrm>
        </p:grpSpPr>
        <p:sp>
          <p:nvSpPr>
            <p:cNvPr id="858" name=""/>
            <p:cNvSpPr/>
            <p:nvPr/>
          </p:nvSpPr>
          <p:spPr>
            <a:xfrm>
              <a:off x="2341440" y="328788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38032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5916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3764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1684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9532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8032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45916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3764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1684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9532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2846520" y="3287880"/>
            <a:ext cx="431640" cy="287280"/>
            <a:chOff x="2846520" y="3287880"/>
            <a:chExt cx="431640" cy="287280"/>
          </a:xfrm>
        </p:grpSpPr>
        <p:sp>
          <p:nvSpPr>
            <p:cNvPr id="870" name=""/>
            <p:cNvSpPr/>
            <p:nvPr/>
          </p:nvSpPr>
          <p:spPr>
            <a:xfrm>
              <a:off x="2846520" y="32878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8540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638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4272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156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0040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8540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638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4272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2156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0040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3351240" y="3287880"/>
            <a:ext cx="431640" cy="287280"/>
            <a:chOff x="3351240" y="3287880"/>
            <a:chExt cx="431640" cy="287280"/>
          </a:xfrm>
        </p:grpSpPr>
        <p:sp>
          <p:nvSpPr>
            <p:cNvPr id="882" name=""/>
            <p:cNvSpPr/>
            <p:nvPr/>
          </p:nvSpPr>
          <p:spPr>
            <a:xfrm>
              <a:off x="3351240" y="32878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9012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860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4744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262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0512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9012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860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4744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262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0512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855960" y="3287880"/>
            <a:ext cx="432000" cy="287280"/>
            <a:chOff x="3855960" y="3287880"/>
            <a:chExt cx="432000" cy="287280"/>
          </a:xfrm>
        </p:grpSpPr>
        <p:sp>
          <p:nvSpPr>
            <p:cNvPr id="894" name=""/>
            <p:cNvSpPr/>
            <p:nvPr/>
          </p:nvSpPr>
          <p:spPr>
            <a:xfrm>
              <a:off x="3855960" y="328788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9484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736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5216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3136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20984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9484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736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5216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3136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0984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361040" y="3287880"/>
            <a:ext cx="431640" cy="287280"/>
            <a:chOff x="4361040" y="3287880"/>
            <a:chExt cx="431640" cy="287280"/>
          </a:xfrm>
        </p:grpSpPr>
        <p:sp>
          <p:nvSpPr>
            <p:cNvPr id="906" name=""/>
            <p:cNvSpPr/>
            <p:nvPr/>
          </p:nvSpPr>
          <p:spPr>
            <a:xfrm>
              <a:off x="4361040" y="328788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9992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7840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57240" y="334476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3608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714920" y="334476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9992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47840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57240" y="346068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3608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714920" y="346068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4000" y="3648240"/>
            <a:ext cx="431640" cy="287280"/>
            <a:chOff x="324000" y="3648240"/>
            <a:chExt cx="431640" cy="287280"/>
          </a:xfrm>
        </p:grpSpPr>
        <p:sp>
          <p:nvSpPr>
            <p:cNvPr id="918" name=""/>
            <p:cNvSpPr/>
            <p:nvPr/>
          </p:nvSpPr>
          <p:spPr>
            <a:xfrm>
              <a:off x="324000" y="36482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28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136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2020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904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78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8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36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020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04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78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826920" y="3648240"/>
            <a:ext cx="432000" cy="287280"/>
            <a:chOff x="826920" y="3648240"/>
            <a:chExt cx="432000" cy="287280"/>
          </a:xfrm>
        </p:grpSpPr>
        <p:sp>
          <p:nvSpPr>
            <p:cNvPr id="930" name=""/>
            <p:cNvSpPr/>
            <p:nvPr/>
          </p:nvSpPr>
          <p:spPr>
            <a:xfrm>
              <a:off x="826920" y="364824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658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4464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312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232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808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658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4464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2312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232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808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1332000" y="3648240"/>
            <a:ext cx="431640" cy="287280"/>
            <a:chOff x="1332000" y="3648240"/>
            <a:chExt cx="431640" cy="287280"/>
          </a:xfrm>
        </p:grpSpPr>
        <p:sp>
          <p:nvSpPr>
            <p:cNvPr id="942" name=""/>
            <p:cNvSpPr/>
            <p:nvPr/>
          </p:nvSpPr>
          <p:spPr>
            <a:xfrm>
              <a:off x="1332000" y="36482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708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4936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2820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0704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858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3708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4936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52820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0704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858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1836720" y="3648240"/>
            <a:ext cx="431640" cy="287280"/>
            <a:chOff x="1836720" y="3648240"/>
            <a:chExt cx="431640" cy="287280"/>
          </a:xfrm>
        </p:grpSpPr>
        <p:sp>
          <p:nvSpPr>
            <p:cNvPr id="954" name=""/>
            <p:cNvSpPr/>
            <p:nvPr/>
          </p:nvSpPr>
          <p:spPr>
            <a:xfrm>
              <a:off x="1836720" y="36482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8756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540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3292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1176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906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8756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9540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3292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1176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906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341440" y="3648240"/>
            <a:ext cx="432000" cy="287280"/>
            <a:chOff x="2341440" y="3648240"/>
            <a:chExt cx="432000" cy="287280"/>
          </a:xfrm>
        </p:grpSpPr>
        <p:sp>
          <p:nvSpPr>
            <p:cNvPr id="966" name=""/>
            <p:cNvSpPr/>
            <p:nvPr/>
          </p:nvSpPr>
          <p:spPr>
            <a:xfrm>
              <a:off x="2341440" y="364824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8032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5916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3764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1684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9532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8032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5916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764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1684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9532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2846520" y="3648240"/>
            <a:ext cx="431640" cy="287280"/>
            <a:chOff x="2846520" y="3648240"/>
            <a:chExt cx="431640" cy="287280"/>
          </a:xfrm>
        </p:grpSpPr>
        <p:sp>
          <p:nvSpPr>
            <p:cNvPr id="978" name=""/>
            <p:cNvSpPr/>
            <p:nvPr/>
          </p:nvSpPr>
          <p:spPr>
            <a:xfrm>
              <a:off x="2846520" y="36482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854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638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4272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12156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004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8854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638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04272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2156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004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3351240" y="3648240"/>
            <a:ext cx="431640" cy="287280"/>
            <a:chOff x="3351240" y="3648240"/>
            <a:chExt cx="431640" cy="287280"/>
          </a:xfrm>
        </p:grpSpPr>
        <p:sp>
          <p:nvSpPr>
            <p:cNvPr id="990" name=""/>
            <p:cNvSpPr/>
            <p:nvPr/>
          </p:nvSpPr>
          <p:spPr>
            <a:xfrm>
              <a:off x="3351240" y="36482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9012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4686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54744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262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70512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9012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686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4744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262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0512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855960" y="3648240"/>
            <a:ext cx="432000" cy="287280"/>
            <a:chOff x="3855960" y="3648240"/>
            <a:chExt cx="432000" cy="287280"/>
          </a:xfrm>
        </p:grpSpPr>
        <p:sp>
          <p:nvSpPr>
            <p:cNvPr id="1002" name=""/>
            <p:cNvSpPr/>
            <p:nvPr/>
          </p:nvSpPr>
          <p:spPr>
            <a:xfrm>
              <a:off x="3855960" y="3648240"/>
              <a:ext cx="432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89484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9736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16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3136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0984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9484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736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16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3136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0984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361040" y="3648240"/>
            <a:ext cx="431640" cy="287280"/>
            <a:chOff x="4361040" y="3648240"/>
            <a:chExt cx="431640" cy="287280"/>
          </a:xfrm>
        </p:grpSpPr>
        <p:sp>
          <p:nvSpPr>
            <p:cNvPr id="1014" name=""/>
            <p:cNvSpPr/>
            <p:nvPr/>
          </p:nvSpPr>
          <p:spPr>
            <a:xfrm>
              <a:off x="4361040" y="36482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39992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784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5724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3608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1492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9992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4784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5724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3608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71492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4865760" y="3648240"/>
            <a:ext cx="431640" cy="287280"/>
            <a:chOff x="4865760" y="3648240"/>
            <a:chExt cx="431640" cy="287280"/>
          </a:xfrm>
        </p:grpSpPr>
        <p:sp>
          <p:nvSpPr>
            <p:cNvPr id="1026" name=""/>
            <p:cNvSpPr/>
            <p:nvPr/>
          </p:nvSpPr>
          <p:spPr>
            <a:xfrm>
              <a:off x="4865760" y="3648240"/>
              <a:ext cx="431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0464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8312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061960" y="370512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4080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19640" y="370512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0464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98312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61960" y="3821040"/>
              <a:ext cx="3888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4080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19640" y="3821040"/>
              <a:ext cx="3852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952200" y="355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284120" y="7160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787400" y="107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90680" y="1436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93960" y="179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297240" y="2157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00160" y="2517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303440" y="2878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806720" y="3238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310000" y="3598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324000" y="4005360"/>
            <a:ext cx="4973400" cy="287280"/>
            <a:chOff x="324000" y="4005360"/>
            <a:chExt cx="4973400" cy="287280"/>
          </a:xfrm>
        </p:grpSpPr>
        <p:sp>
          <p:nvSpPr>
            <p:cNvPr id="1048" name=""/>
            <p:cNvSpPr/>
            <p:nvPr/>
          </p:nvSpPr>
          <p:spPr>
            <a:xfrm>
              <a:off x="324000" y="4005360"/>
              <a:ext cx="4973400" cy="287280"/>
            </a:xfrm>
            <a:prstGeom prst="rect">
              <a:avLst/>
            </a:prstGeom>
            <a:solidFill>
              <a:srgbClr val="f3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6360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136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056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98320" y="406224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7788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60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4136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056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98320" y="417816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7788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6688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4464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02384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101600" y="406224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18116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6688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94464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2384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01600" y="417816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18116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7160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44936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28920" y="406224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60668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68588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7160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44936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28920" y="417816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0668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8588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87632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54080" y="406224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3364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1140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9060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7632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954080" y="417816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03364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11140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9060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381400" y="406224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5916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3836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1612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9568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81400" y="417816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45916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3836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1612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9568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88612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6388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4308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2120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0040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8612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6388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4308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12120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0040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084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6860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54816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2592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512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9084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860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4816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2592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0512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89556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97368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5288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13064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10200" y="406224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9556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97368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5288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3064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10200" y="417816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40064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47840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5760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35360" y="406224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71492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40064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47840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55760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35360" y="417816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1492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0536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312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62680" y="406224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140440" y="406224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19640" y="406224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90536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8312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062680" y="417816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140440" y="4178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19640" y="4178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"/>
          <p:cNvGrpSpPr/>
          <p:nvPr/>
        </p:nvGrpSpPr>
        <p:grpSpPr>
          <a:xfrm>
            <a:off x="395280" y="476280"/>
            <a:ext cx="4973400" cy="287280"/>
            <a:chOff x="395280" y="476280"/>
            <a:chExt cx="4973400" cy="287280"/>
          </a:xfrm>
        </p:grpSpPr>
        <p:sp>
          <p:nvSpPr>
            <p:cNvPr id="1150" name=""/>
            <p:cNvSpPr/>
            <p:nvPr/>
          </p:nvSpPr>
          <p:spPr>
            <a:xfrm>
              <a:off x="395280" y="476280"/>
              <a:ext cx="4973400" cy="287280"/>
            </a:xfrm>
            <a:prstGeom prst="rect">
              <a:avLst/>
            </a:prstGeom>
            <a:solidFill>
              <a:srgbClr val="f3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488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1264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184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69600" y="53316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4916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488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1264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184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9600" y="64908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916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3816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01592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09512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172880" y="53316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5244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3816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1592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9512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72880" y="64908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25244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44288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064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600200" y="53316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796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75716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4288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2064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600200" y="64908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67796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75716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4760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025360" y="53316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0492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8268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26188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4760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025360" y="64908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0492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8268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6188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52680" y="53316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3044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60964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8740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76696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452680" y="64908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53044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0964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68740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6696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95740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3516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11436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19248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7168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95740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03516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11436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19248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7168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46212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3988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1944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720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7640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6212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53988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61944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9720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7640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96684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4496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2416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0192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81480" y="53316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96684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4496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2416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192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281480" y="64908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47192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4968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2888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706640" y="53316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78620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47192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4968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62888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06640" y="64908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78620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97664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05440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133960" y="53316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11720" y="53316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290920" y="53316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97664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05440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133960" y="64908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11720" y="6490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290920" y="6490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5706360" y="423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324000" y="1197000"/>
            <a:ext cx="4973400" cy="287280"/>
            <a:chOff x="324000" y="1197000"/>
            <a:chExt cx="4973400" cy="287280"/>
          </a:xfrm>
        </p:grpSpPr>
        <p:sp>
          <p:nvSpPr>
            <p:cNvPr id="1253" name=""/>
            <p:cNvSpPr/>
            <p:nvPr/>
          </p:nvSpPr>
          <p:spPr>
            <a:xfrm>
              <a:off x="324000" y="1197000"/>
              <a:ext cx="4973400" cy="287280"/>
            </a:xfrm>
            <a:prstGeom prst="rect">
              <a:avLst/>
            </a:prstGeom>
            <a:solidFill>
              <a:srgbClr val="f3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360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136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2056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8320" y="125388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788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6360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136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056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8320" y="136980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7788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688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94464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02384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101600" y="125388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18116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6688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94464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02384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101600" y="136980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18116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7160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44936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528920" y="125388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0668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68588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7160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44936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28920" y="136980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60668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68588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87632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954080" y="125388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03364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1140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19060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87632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54080" y="136980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3364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1140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9060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81400" y="125388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45916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53836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61612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9568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81400" y="136980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5916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3836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1612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69568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8612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6388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04308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12120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20040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88612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96388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04308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12120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0040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39084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6860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54816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2592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0512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39084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6860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54816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2592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0512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89556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97368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5288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3064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210200" y="125388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9556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97368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5288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13064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210200" y="136980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40064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47840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55760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35360" y="125388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71492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40064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7840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5760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635360" y="1369800"/>
              <a:ext cx="399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1492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90536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98312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062680" y="125388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40440" y="125388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219640" y="125388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0536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98312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62680" y="1369800"/>
              <a:ext cx="378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140440" y="1369800"/>
              <a:ext cx="3960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219640" y="1369800"/>
              <a:ext cx="38160" cy="5724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2557080" y="836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868360" y="1557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916360" y="2062080"/>
            <a:ext cx="4968720" cy="574920"/>
          </a:xfrm>
          <a:prstGeom prst="rect">
            <a:avLst/>
          </a:prstGeom>
          <a:solidFill>
            <a:srgbClr val="f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95596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03372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11292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19104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27024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95596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03372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11292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19104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7024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924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53700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61620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693960" y="21193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77352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45924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53700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61620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693960" y="223524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77352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6396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04172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121280" y="21193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19904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27824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96396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04172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121280" y="223524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19904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27824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46868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546440" y="21193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62600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70376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78296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46868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546440" y="223524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62600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70376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78296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973760" y="21193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05152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513072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208480" y="21193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28804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973760" y="223524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05152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13072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208480" y="223524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28804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47848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55624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635800" y="21193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71356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79276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47848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55624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635800" y="223524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71356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79276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98320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060960" y="21193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14052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21828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29748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8320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60960" y="223524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4052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21828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29748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88280" y="21193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56604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64524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72300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802560" y="21193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488280" y="223524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6604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64524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2300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02560" y="223524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99300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707076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14996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227720" y="21193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30728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9300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707076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14996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227720" y="223524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30728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49772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57548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65504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732800" y="21193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812000" y="21193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49772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57548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65504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732800" y="223524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812000" y="223524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95596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03372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11292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19104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27024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95596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03372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11292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19104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27024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45924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53700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61620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693960" y="241920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77352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45924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53700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61620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693960" y="25351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77352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96396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04172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121280" y="241920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19904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27824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96396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04172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121280" y="25351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19904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27824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46868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546440" y="241920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62600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70376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78296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46868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546440" y="25351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62600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70376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78296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973760" y="241920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05152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13072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5208480" y="241920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28804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973760" y="25351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05152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13072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208480" y="25351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28804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47848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55624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635800" y="241920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71356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79276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47848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55624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635800" y="25351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71356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79276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98320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060960" y="241920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14052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621828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29748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98320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060960" y="25351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14052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21828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29748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6488280" y="241920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56604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64524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72300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802560" y="241920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488280" y="25351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6604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4524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72300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802560" y="2535120"/>
            <a:ext cx="378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99300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707076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14996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227720" y="241920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30728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99300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07076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714996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227720" y="2535120"/>
            <a:ext cx="399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30728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49772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57548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65504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732800" y="241920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812000" y="241920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49772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57548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65504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732800" y="2535120"/>
            <a:ext cx="3960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812000" y="2535120"/>
            <a:ext cx="38160" cy="57240"/>
          </a:xfrm>
          <a:prstGeom prst="ellipse">
            <a:avLst/>
          </a:prstGeom>
          <a:solidFill>
            <a:srgbClr val="f4ba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5653800" y="1125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5797080" y="765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300720" y="1484280"/>
            <a:ext cx="935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9:59:58Z</dcterms:created>
  <dc:creator>Chavant</dc:creator>
  <dc:description/>
  <dc:language>en-US</dc:language>
  <cp:lastModifiedBy>Chavant</cp:lastModifiedBy>
  <dcterms:modified xsi:type="dcterms:W3CDTF">2005-10-22T20:33:10Z</dcterms:modified>
  <cp:revision>4</cp:revision>
  <dc:subject/>
  <dc:title>Diapositive 1</dc:title>
</cp:coreProperties>
</file>